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554-1BF3-4437-B213-F529AA8F84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7B81-8281-4D4D-B8D8-2A966B870F8C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45E-9A52-439D-9760-F7A64786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0F3-FD1E-406D-9C1E-24DDF6CF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670-D570-439B-8C59-735FA891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4F8-28E3-459C-B3C9-9EDF0948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559F-951E-4976-936F-764F2926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B50C-D666-4ABA-AA6E-0A16307A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61E9-D44F-4BFA-965E-2A2416CC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B1EC-29D8-45F7-8962-DD6BC670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CA29-0D17-4AE8-AE8F-868FF49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3564-B88D-47F6-863A-B1F3182E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C8CB-26E2-4B09-AE2E-A29CCF16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3B2-ECDB-4ABF-A915-50AEDEBE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4798-E417-43FB-8216-338211C7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E0DA-2E58-4246-9CC5-F23AF698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5C8D-718F-4511-826E-6A72C1A0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FFB3-61D0-4464-8769-CFA0C75C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0AF-A687-4DCA-871D-2BA8AAD2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281-5A3D-4FF0-A650-D8E2145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B8E-333D-48CD-A4CB-F06796AC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4C2-7E87-40F6-ABAB-53DE0C0D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06F-D76E-44E2-96B5-804428F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9B2-53CA-498B-B967-97FD5F60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D01-CBAF-4D3E-9B76-68AC3B23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81D-B1C9-492D-8C1B-D1F50070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1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48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9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29" descr="NAPV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30" descr="NAPVB"/>
            <p:cNvPicPr/>
            <p:nvPr/>
          </p:nvPicPr>
          <p:blipFill>
            <a:blip r:embed="rId3"/>
            <a:srcRect l="0" t="17003" r="92981" b="0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31" descr="NAPVB"/>
            <p:cNvPicPr/>
            <p:nvPr/>
          </p:nvPicPr>
          <p:blipFill>
            <a:blip r:embed="rId4"/>
            <a:srcRect l="0" t="17003" r="92981" b="0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32" descr="NAPVB"/>
            <p:cNvPicPr/>
            <p:nvPr/>
          </p:nvPicPr>
          <p:blipFill>
            <a:blip r:embed="rId5"/>
            <a:srcRect l="0" t="17003" r="92981" b="0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3" descr="NAPVB"/>
            <p:cNvPicPr/>
            <p:nvPr/>
          </p:nvPicPr>
          <p:blipFill>
            <a:blip r:embed="rId6"/>
            <a:srcRect l="0" t="17003" r="92981" b="0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34" descr="NAPVB"/>
            <p:cNvPicPr/>
            <p:nvPr/>
          </p:nvPicPr>
          <p:blipFill>
            <a:blip r:embed="rId7"/>
            <a:srcRect l="0" t="17003" r="92981" b="0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5" descr="NAPVB"/>
            <p:cNvPicPr/>
            <p:nvPr/>
          </p:nvPicPr>
          <p:blipFill>
            <a:blip r:embed="rId8"/>
            <a:srcRect l="0" t="17003" r="92981" b="0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36" descr="NAPVB"/>
            <p:cNvPicPr/>
            <p:nvPr/>
          </p:nvPicPr>
          <p:blipFill>
            <a:blip r:embed="rId9"/>
            <a:srcRect l="0" t="17003" r="92981" b="0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37" descr="NAPVB"/>
            <p:cNvPicPr/>
            <p:nvPr/>
          </p:nvPicPr>
          <p:blipFill>
            <a:blip r:embed="rId10"/>
            <a:srcRect l="0" t="17003" r="92981" b="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38" descr="NAPVB"/>
            <p:cNvPicPr/>
            <p:nvPr/>
          </p:nvPicPr>
          <p:blipFill>
            <a:blip r:embed="rId11"/>
            <a:srcRect l="0" t="17003" r="92981" b="0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39" descr="NAPVB"/>
            <p:cNvPicPr/>
            <p:nvPr/>
          </p:nvPicPr>
          <p:blipFill>
            <a:blip r:embed="rId12"/>
            <a:srcRect l="0" t="17003" r="92981" b="0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41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45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47" descr="ANABNR2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52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7EF9-4202-4DC9-BA2C-84473E46B985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6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60" name="Rectangle 51"/>
            <p:cNvSpPr/>
            <p:nvPr/>
          </p:nvSpPr>
          <p:spPr>
            <a:xfrm>
              <a:off x="228600" y="3197880"/>
              <a:ext cx="8763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50"/>
            <p:cNvSpPr/>
            <p:nvPr/>
          </p:nvSpPr>
          <p:spPr>
            <a:xfrm>
              <a:off x="914400" y="913680"/>
              <a:ext cx="7620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AutoShape 26"/>
            <p:cNvSpPr/>
            <p:nvPr/>
          </p:nvSpPr>
          <p:spPr>
            <a:xfrm>
              <a:off x="728640" y="1598760"/>
              <a:ext cx="7696080" cy="190368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Rectangle 49"/>
            <p:cNvSpPr/>
            <p:nvPr/>
          </p:nvSpPr>
          <p:spPr>
            <a:xfrm>
              <a:off x="0" y="6167880"/>
              <a:ext cx="9144000" cy="68508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4" name="Picture 53" descr="ANABNR2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197880"/>
              <a:ext cx="8458200" cy="11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54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66" name="Picture 55" descr="NAPVB"/>
              <p:cNvPicPr/>
              <p:nvPr/>
            </p:nvPicPr>
            <p:blipFill>
              <a:blip r:embed="rId4"/>
              <a:srcRect l="0" t="17003" r="92981" b="0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56" descr="NAPVB"/>
              <p:cNvPicPr/>
              <p:nvPr/>
            </p:nvPicPr>
            <p:blipFill>
              <a:blip r:embed="rId5"/>
              <a:srcRect l="0" t="17003" r="92981" b="0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57" descr="NAPVB"/>
              <p:cNvPicPr/>
              <p:nvPr/>
            </p:nvPicPr>
            <p:blipFill>
              <a:blip r:embed="rId6"/>
              <a:srcRect l="0" t="17003" r="92981" b="0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58" descr="NAPVB"/>
              <p:cNvPicPr/>
              <p:nvPr/>
            </p:nvPicPr>
            <p:blipFill>
              <a:blip r:embed="rId7"/>
              <a:srcRect l="0" t="17003" r="92981" b="0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59" descr="NAPVB"/>
              <p:cNvPicPr/>
              <p:nvPr/>
            </p:nvPicPr>
            <p:blipFill>
              <a:blip r:embed="rId8"/>
              <a:srcRect l="0" t="17003" r="92981" b="0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60" descr="NAPVB"/>
              <p:cNvPicPr/>
              <p:nvPr/>
            </p:nvPicPr>
            <p:blipFill>
              <a:blip r:embed="rId9"/>
              <a:srcRect l="0" t="17003" r="92981" b="0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61" descr="NAPVB"/>
              <p:cNvPicPr/>
              <p:nvPr/>
            </p:nvPicPr>
            <p:blipFill>
              <a:blip r:embed="rId10"/>
              <a:srcRect l="0" t="17003" r="92981" b="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62" descr="NAPVB"/>
              <p:cNvPicPr/>
              <p:nvPr/>
            </p:nvPicPr>
            <p:blipFill>
              <a:blip r:embed="rId11"/>
              <a:srcRect l="0" t="17003" r="92981" b="0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63" descr="NAPVB"/>
              <p:cNvPicPr/>
              <p:nvPr/>
            </p:nvPicPr>
            <p:blipFill>
              <a:blip r:embed="rId12"/>
              <a:srcRect l="0" t="17003" r="92981" b="0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4" descr="NAPVB"/>
              <p:cNvPicPr/>
              <p:nvPr/>
            </p:nvPicPr>
            <p:blipFill>
              <a:blip r:embed="rId13"/>
              <a:srcRect l="0" t="17003" r="92981" b="0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Rectangle 19"/>
            <p:cNvSpPr/>
            <p:nvPr/>
          </p:nvSpPr>
          <p:spPr>
            <a:xfrm>
              <a:off x="795240" y="2893320"/>
              <a:ext cx="304920" cy="99000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25A2-E058-48D3-91E9-356D9160D3CD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5985"/>
                </a:solidFill>
                <a:latin typeface="Arial Black"/>
              </a:rPr>
              <a:t>Чтобы душа была жива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55280" y="4005360"/>
            <a:ext cx="5545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Ф.М.Достоевский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«Преступление и наказание» - роман – предупреждение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76360" y="623736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Байдакова Т.Б., учитель литературы МОУ СОШ № 3г.Амурск, 200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Рисунок1Титул"/>
          <p:cNvPicPr/>
          <p:nvPr/>
        </p:nvPicPr>
        <p:blipFill>
          <a:blip r:embed="rId1"/>
          <a:stretch/>
        </p:blipFill>
        <p:spPr>
          <a:xfrm>
            <a:off x="6804000" y="2708280"/>
            <a:ext cx="2158920" cy="3025800"/>
          </a:xfrm>
          <a:prstGeom prst="rect">
            <a:avLst/>
          </a:prstGeom>
          <a:ln w="93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71640" y="3428640"/>
            <a:ext cx="792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164"/>
                </a:solidFill>
                <a:latin typeface="Times New Roman"/>
              </a:rPr>
              <a:t>Как не допустить катастрофы собственного духа?</a:t>
            </a:r>
            <a:r>
              <a:rPr b="0" lang="ru-RU" sz="28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164"/>
                </a:solidFill>
                <a:latin typeface="Times New Roman"/>
              </a:rPr>
              <a:t>О чем человек должен помнить, совершая поступки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Рисунок23"/>
          <p:cNvPicPr/>
          <p:nvPr/>
        </p:nvPicPr>
        <p:blipFill>
          <a:blip r:embed="rId1"/>
          <a:stretch/>
        </p:blipFill>
        <p:spPr>
          <a:xfrm>
            <a:off x="1908000" y="549360"/>
            <a:ext cx="6048720" cy="3889440"/>
          </a:xfrm>
          <a:prstGeom prst="rect">
            <a:avLst/>
          </a:prstGeom>
          <a:ln w="3168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8281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ac164"/>
                </a:solidFill>
                <a:latin typeface="Times New Roman"/>
              </a:rPr>
              <a:t>Под знаком Ф.М.Достоевского</a:t>
            </a:r>
            <a:br>
              <a:rPr sz="4400"/>
            </a:b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867280" y="6165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. Глазун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Picture 7" descr="Глазунов7"/>
          <p:cNvPicPr/>
          <p:nvPr/>
        </p:nvPicPr>
        <p:blipFill>
          <a:blip r:embed="rId1"/>
          <a:stretch/>
        </p:blipFill>
        <p:spPr>
          <a:xfrm>
            <a:off x="900000" y="1700280"/>
            <a:ext cx="8064720" cy="4468680"/>
          </a:xfrm>
          <a:prstGeom prst="rect">
            <a:avLst/>
          </a:prstGeom>
          <a:ln w="381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ac164"/>
                </a:solidFill>
                <a:latin typeface="Times New Roman"/>
              </a:rPr>
              <a:t>Законы совести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352520" y="2984400"/>
            <a:ext cx="3919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 чем предупреждает автор в роман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Преступление и наказание»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4" descr="Рисунок3"/>
          <p:cNvPicPr/>
          <p:nvPr/>
        </p:nvPicPr>
        <p:blipFill>
          <a:blip r:embed="rId1"/>
          <a:stretch/>
        </p:blipFill>
        <p:spPr>
          <a:xfrm>
            <a:off x="5076720" y="2060640"/>
            <a:ext cx="3456000" cy="4248000"/>
          </a:xfrm>
          <a:prstGeom prst="rect">
            <a:avLst/>
          </a:prstGeom>
          <a:ln w="9360">
            <a:solidFill>
              <a:srgbClr val="fac1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Знакомы ли вам </a:t>
            </a:r>
            <a:br>
              <a:rPr sz="4000"/>
            </a:b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эти персонажи?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1333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28840" y="21333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4267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28840" y="4267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11" descr="Петербург Достоевского"/>
          <p:cNvPicPr/>
          <p:nvPr/>
        </p:nvPicPr>
        <p:blipFill>
          <a:blip r:embed="rId1"/>
          <a:stretch/>
        </p:blipFill>
        <p:spPr>
          <a:xfrm>
            <a:off x="1763640" y="1989000"/>
            <a:ext cx="6193080" cy="4643640"/>
          </a:xfrm>
          <a:prstGeom prst="rect">
            <a:avLst/>
          </a:prstGeom>
          <a:ln w="31680">
            <a:solidFill>
              <a:srgbClr val="19244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781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Выполните задания тес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Обсудите вопросы тес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Заполните  опорный конспек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6" descr="Копия B135-8439"/>
          <p:cNvPicPr/>
          <p:nvPr/>
        </p:nvPicPr>
        <p:blipFill>
          <a:blip r:embed="rId1"/>
          <a:stretch/>
        </p:blipFill>
        <p:spPr>
          <a:xfrm>
            <a:off x="6084720" y="476280"/>
            <a:ext cx="2808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164"/>
                </a:solidFill>
                <a:latin typeface="Times New Roman"/>
              </a:rPr>
              <a:t>Подумайте  и ответьте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именно студенту, а не офицеру доверяет автор мысли о праве на кровь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старуха, по замыслу автора, свои деньги завещала в монастырь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Лизавета во всем противопоставлена Алене Ивановне ( портрет, поступки, социальное положение)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чему в диалог офицера и студента автор включил проблему ценности человеческой жизни? Можно ли измерить ценность человеческой жизни, по Достоевскому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317080" y="595008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10800"/>
                </a:moveTo>
                <a:lnTo>
                  <a:pt x="18434" y="3794"/>
                </a:lnTo>
                <a:lnTo>
                  <a:pt x="18434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ac164"/>
                </a:solidFill>
                <a:latin typeface="Times New Roman"/>
              </a:rPr>
              <a:t>Проверьте себя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87280" y="1700280"/>
          <a:ext cx="7632720" cy="4913280"/>
        </p:xfrm>
        <a:graphic>
          <a:graphicData uri="http://schemas.openxmlformats.org/drawingml/2006/table">
            <a:tbl>
              <a:tblPr/>
              <a:tblGrid>
                <a:gridCol w="3962520"/>
                <a:gridCol w="367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 чем предупреждает автор?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тветы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 умах людей в разные эпохи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сегда будут бродить самые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разные…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аже самый бесчувственный человек не должен забывать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колько стоит человеческая жизнь?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юбое насилие, задуманное из лучших побуждений, оборачивается преступлением прежде всего против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Невыносимым обстоятельствам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уховного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тупика человек может противопоставить 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81"/>
          <p:cNvSpPr/>
          <p:nvPr/>
        </p:nvSpPr>
        <p:spPr>
          <a:xfrm>
            <a:off x="5364000" y="3429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о собственной душ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82"/>
          <p:cNvSpPr/>
          <p:nvPr/>
        </p:nvSpPr>
        <p:spPr>
          <a:xfrm>
            <a:off x="5219640" y="4076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Человеческая жизнь бесценн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83"/>
          <p:cNvSpPr/>
          <p:nvPr/>
        </p:nvSpPr>
        <p:spPr>
          <a:xfrm>
            <a:off x="5292720" y="4941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бесправных, обездоленных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84"/>
          <p:cNvSpPr/>
          <p:nvPr/>
        </p:nvSpPr>
        <p:spPr>
          <a:xfrm>
            <a:off x="5364000" y="59500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законы совести, заповед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90"/>
          <p:cNvSpPr/>
          <p:nvPr/>
        </p:nvSpPr>
        <p:spPr>
          <a:xfrm>
            <a:off x="6372360" y="2492280"/>
            <a:ext cx="1439640" cy="360360"/>
          </a:xfrm>
          <a:prstGeom prst="rect">
            <a:avLst/>
          </a:prstGeom>
          <a:solidFill>
            <a:srgbClr val="687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164"/>
                </a:solidFill>
                <a:latin typeface="Times New Roman"/>
              </a:rPr>
              <a:t>иде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7533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164"/>
                </a:solidFill>
                <a:latin typeface="Times New Roman"/>
              </a:rPr>
              <a:t>Поработаем с текстом произведения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2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кройте  роман (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II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асть, 5 глава) эпизод первой встречи Раскольникова со следователем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 слов: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«Помилуйте, да вы деньги можете с них спросить…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о слов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« Если бы я и перешагнул, то вам бы уж точно не сказал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2.     Просмотрите его еще раз внимательно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3.     Найдите в тексте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риемы лексического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овтора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Один из них не был включен в режиссерскую постановку художественного фильма, однако для автора был очень важен.  Какие это слова? Кто их произносит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1052640"/>
            <a:ext cx="77533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c164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ac164"/>
                </a:solidFill>
                <a:latin typeface="Times New Roman"/>
              </a:rPr>
              <a:t>Анализ эпизода</a:t>
            </a:r>
            <a:r>
              <a:rPr b="0" lang="ru-RU" sz="4400" spc="-1" strike="noStrike">
                <a:solidFill>
                  <a:srgbClr val="fac164"/>
                </a:solidFill>
                <a:latin typeface="Times New Roman"/>
              </a:rPr>
              <a:t> «</a:t>
            </a:r>
            <a:r>
              <a:rPr b="1" i="1" lang="ru-RU" sz="3600" spc="-1" strike="noStrike">
                <a:solidFill>
                  <a:srgbClr val="fac164"/>
                </a:solidFill>
                <a:latin typeface="Times New Roman"/>
              </a:rPr>
              <a:t>Первая встреча Родиона Раскольникова и следователя Порфирия Петровича»</a:t>
            </a:r>
            <a:endParaRPr b="0" lang="en-US" sz="36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781000"/>
            <a:ext cx="77533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ие слова Родиона Раскольников исключил режиссер из сценария фильма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чем Ф.М.Достоевский использовал прием повтора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Художественный фильм «Преступление и наказание»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ежиссер-постановщик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Лев Кулиджан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ктеры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рфирий Петрович  -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Иннокентий Смоктуновский,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одион Раскольников  -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Георгий Тараторки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Раскольников и Порфирий Петрович.mpg" descr=""/>
          <p:cNvPicPr/>
          <p:nvPr/>
        </p:nvPicPr>
        <p:blipFill>
          <a:blip r:embed="rId1"/>
          <a:stretch/>
        </p:blipFill>
        <p:spPr>
          <a:xfrm>
            <a:off x="4932360" y="220356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2:09:56Z</dcterms:created>
  <dc:creator>sveta</dc:creator>
  <dc:description/>
  <cp:keywords/>
  <dc:language>en-US</dc:language>
  <cp:lastModifiedBy>Владелец</cp:lastModifiedBy>
  <dcterms:modified xsi:type="dcterms:W3CDTF">2010-05-16T21:24:45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71049</vt:lpwstr>
  </property>
</Properties>
</file>